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90CCF-1AC9-40D0-829D-246DA3637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F7FB1-2F03-4E43-8525-F202C1C23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15AA0-038C-4D9F-AE05-E049737B6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18557-1EE3-49C2-A23A-C3FCCE8F5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BA853-0BE0-4CB9-9F09-D08AF16B8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6C86E-BE76-4BCB-ADA9-0FBE3527C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74B2E-9FF5-4CEF-A44F-ABC86AAF6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A8B7E-30B9-41CD-BCAA-367821362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D2D3F-D04A-4929-82C1-F8657A3B4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2AE3C-C48D-40A0-9E48-616615602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E80CC-588A-42AE-AC69-A7831CA49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D030A-D79F-462E-B439-855BD9C07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85F8C-C323-4D3F-B190-2C04D783E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39634-C9F4-4304-8DB2-1D8115016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7051E-0338-4B94-BFE0-156CB12FF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CD493-2515-40A8-B844-417033FD5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32E14-0F35-4214-A8D9-F217D8B82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A55A9-A6E0-476D-A508-AF325F6AB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2CAC2-24FE-4519-AF2F-58B04D1C6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53388-45E9-4576-A23F-EB32024C6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6EF63-9D96-490F-96A6-9287FE1CE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29B44-72B4-4BCB-93A8-228CE2F93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5BBF7-688E-4B84-8D4E-3B70287AD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244D5-FCAE-46C6-BC75-8B4C9B0E4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FBD88-7D61-4BA1-8930-4AAFA84DCA09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5D04B-E098-427D-86DC-964A414A81DC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003366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003366"/>
                </a:solidFill>
                <a:latin typeface="굴림"/>
              </a:rPr>
              <a:t>3 </a:t>
            </a:r>
            <a:r>
              <a:rPr b="1" lang="ko-KR" sz="4800" spc="-1" strike="noStrike">
                <a:solidFill>
                  <a:srgbClr val="003366"/>
                </a:solidFill>
                <a:latin typeface="굴림"/>
              </a:rPr>
              <a:t>장 평가</a:t>
            </a:r>
            <a:endParaRPr b="1" lang="en-US" sz="48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427280" y="2927520"/>
            <a:ext cx="425916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대구대학교 언어치료학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권도하 교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항목별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 SW/M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0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더듬 비율이 연령과 말하는 과제 기능에 따라 변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는 가장 적은 말더듬을 유발한 항목에서 가장 많이 유발한 항목으로 진행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질문하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말더듬을 많이 유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복합적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다양한 말더듬 측정 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이한 말하기 상황에 따라 말더듬 비율이 다르다는 특징에 따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환경에서 평가하는 것이 필요성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과업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경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정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압박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압박감 없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만약 압박감을 측정할 수 있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발화의 길이 혹은 복잡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짧음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긺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간단함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잡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공개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overt sample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측정사실 모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공개 샘플에서 더 많이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대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 환경과 실제 생활에서 측정 사이 불일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실내 샘플과 임상실외 샘플 사이의 차이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저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실내 샘플과 임상실외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이에 유의미한 차이 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복합적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다양한 말더듬 측정 방법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2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Onslow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외면적 및 내면적 행동 관찰에서 치료 전 및 치료 후 모두에서 대부분 경우에 매우 유사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. Ingham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Onslow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적어도 세 가지 다른 환경들에서 혹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명의 다른 사람들에게서 샘플을 얻을 것을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말하기 과업과 경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서로 다른 사람들과 적어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~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서로 다른 장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 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 밖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화장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구어 샘플을 수집 기회 제공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1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곳까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에 대한 부연 설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포함하는 프로그램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Monterey Fluency Program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Systematic Fluency Assessment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과 비슷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 이유 개발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hine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초기 워크숍에 참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모든 유창성 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를 유도하는 발화의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용한 말더듬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 결과를 분석하기 위해서 사용한 신뢰도 절차 등으로써 충분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. 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중국어로 번역되어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국 연구지에서 검토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. 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로 수집한 것과 같은 완전한 샘플을 수집하는 것의 중요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1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 수집 및 검사 과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riterion Test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에 대해 전혀 후속자극을 주지 않고 그 환자의 치료 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을 측정한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시작하기 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지 주요한 말하기 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서 말더듬에 대한 일관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할 수 있는 비율을 얻는 것이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단어를 계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한 시간 측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나중에 분석을 위해서 녹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녹화를 해야 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도 및 단어 수 계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2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확인사항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아동의 읽기 수준이하의 읽기 자료를 선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각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 1, 2, 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 대하여 각각 다른 읽기 자료를 선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 흔히 있는 정상적 비유창성인 수정과 말더듬을 구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상자가 글을 읽지 못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 검사를 실시하지 말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지시는 간단하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내가 당신에게 충분하다고 할 때까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당신은 계속 읽어야 합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백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여기에 당신이 말할 주제들이 있습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당신이 말을 하고 나는 들을 것입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26" name="00430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3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다음 단계로 나아가기 위해서 통과해야할 프로그램 중에 실시하는 검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기준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T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검사가 필요한 단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장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3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쪽 그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7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 말더듬 비율이 높게 관찰되는 이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들이 읽기에서 대치하거나 돌려말하기를 할 수 없기 때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많은 성인들은 특정한 단어를 돌려 말하고 회피할 수 있기 때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프로그램에서 읽기로 시작하는 주요한 이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회피문제를 직면하게 하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회피문제를 조기에 해결하기 위해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57160" y="235728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3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1" name="_x82924376" descr="EMB000006d00946"/>
          <p:cNvPicPr/>
          <p:nvPr/>
        </p:nvPicPr>
        <p:blipFill>
          <a:blip r:embed="rId1"/>
          <a:stretch/>
        </p:blipFill>
        <p:spPr>
          <a:xfrm>
            <a:off x="785880" y="214200"/>
            <a:ext cx="7000920" cy="6643800"/>
          </a:xfrm>
          <a:prstGeom prst="rect">
            <a:avLst/>
          </a:prstGeom>
          <a:ln w="0">
            <a:noFill/>
          </a:ln>
        </p:spPr>
      </p:pic>
      <p:pic>
        <p:nvPicPr>
          <p:cNvPr id="132" name="00429.mp3" descr=""/>
          <p:cNvPicPr/>
          <p:nvPr/>
        </p:nvPicPr>
        <p:blipFill>
          <a:blip r:embed="rId2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T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와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관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an Kirk(1974b): r=.7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로 유의미한 상관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(1995b): r=.9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상관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여러 개의 측정을 하는 이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객관성을 효과적으로 충족시키기 위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과업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반화를 위한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중간 및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종료 시에 계속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전에 실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 단계로 나아갈 준비 확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중 각 단계를 마친 후 실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사례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표준 사례사 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요정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언어치료 경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 기간 동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나 많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나 성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?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패한 치료의 경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기대감 저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대하게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친부모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친척들의 말더듬 유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현재 지속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전적인 요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에 대한 생물학적 기초를 지적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모들은 유전적 제공자이자 하나의 모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합 사례사 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유창성 인터뷰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(FI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인터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I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이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성인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아동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두 개의 양식이 번거롭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소비가 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길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필요한 부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삭제항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림 이야기 말하기와 독백 유사한 항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방해 항목은 일관성 유지 어려워 삭제하였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령 전 아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떤 항목들을 생략 가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화하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과제들과 환경들에서 환자의 구어샘플 얻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하나의 진단검사이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후 검사도구로서 역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시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약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시 항목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발화 수 등과 같은 요인에 따라 말하는 시간이 약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~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으로 나타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99" name="00428.mp3" descr=""/>
          <p:cNvPicPr/>
          <p:nvPr/>
        </p:nvPicPr>
        <p:blipFill>
          <a:blip r:embed="rId1"/>
          <a:stretch/>
        </p:blipFill>
        <p:spPr>
          <a:xfrm>
            <a:off x="864396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인터뷰 및 태도 척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척도 및 인터뷰 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문제와 치료의 효과에 대한 환자 및 부모의 견해를 얻기 위해 제시한 전략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Public School Proje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Bridgeport Proje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추적점검용으로 인터뷰 양식을 개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Ryan, 1981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 데이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에 대한 효과나 평가에 매우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 이내에 환자의 부모로부터 중요한 정보를 제공받는데 대단히 도움이 되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에게 질문 할 것들에 대한 아이디어를 주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후에 매우 유용한 정보를 제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 시간을 잘 사용하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별화교육계획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IEP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치료시작 및 치료종료 등의 활동에 쉽게 활용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실시 및 채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자료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10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의 그림 카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환자의 읽기 수준에 맞는 읽기 자료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실제 전화로 할 수 있는 것 등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낯선 사람 혹은 환자를 모르는 사람도 필요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한 손에 스톱워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다른 손에 연필을 잡고서 검사 결과를 씀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인터뷰를 녹음하여야 함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첵크 사항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환자가 말하는 시간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더듬은 단어 수 계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실시간 바람직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결과 데이터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5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요약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10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A~J)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의 상이한 구어 활동에 대한 분류와 계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+ 4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의 다른 환경에서 검사자 이외의 다른 사람들과 말하는 것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더듬을 가장 적게 유발하는 것에서부터 가장 많이 유발하는 것의 순으로 배열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각 항목별 개별적으로 시간을 재고 분석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총 더듬은 단어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한 시간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더듬 비율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SW/M)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투쟁행동은 임상적 말더듬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clinical stuttering)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으로 분류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유창성 인터뷰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FI)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양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어떤 환자의 유창성인터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FI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양식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형태분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의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의 우측 상단 코너에 말더듬 행동에 대한 형태분석을 제시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형태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①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전체반복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w/r), ②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부분반복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pw/r), ③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p), ④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투쟁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s), ⑤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중 어느 하나에 간단히 ○표 함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한 단어에서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이상의 형태가 나타난다면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가장 심한 혹은 더 심한 형태로 선택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</a:t>
            </a:r>
            <a:r>
              <a:rPr b="0" lang="ko-KR" sz="1800" spc="-1" strike="noStrike">
                <a:solidFill>
                  <a:srgbClr val="003366"/>
                </a:solidFill>
                <a:latin typeface="Arial"/>
              </a:rPr>
              <a:t>”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범주 중 어느 곳에도 넣을 수 없는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 앞에서 코를 훌쩍임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와 같은 드문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투쟁에 포함시킴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심한 정도는 전적으로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SW/M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에 의하여 결정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경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mild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.0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중정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moderate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2.0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고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severe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9.0 SW/M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 분석의 약점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가지 형태의 출현 유무를 나타내지 않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심한 정도 평가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심한 정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severity): 7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혹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8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척도를 사용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0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 없음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, 1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경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…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7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최고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일 경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8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척도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성 인터뷰 심한 정도 지수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; Fluency Interview Index of Severity)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심한 정도를 평가하는 보다 더 공식적인 시스템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9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지수는 완벽하지 않으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특히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PM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부분에서 더욱 완벽하지 않다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SI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이의 상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29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Lowery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가 실시한 인지적 평가 사이의 상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42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W/M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이에 유의한 상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r=.51, p&lt;.05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하는 속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speaking rate)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문제영역임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단지 중정도의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W/M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이면서 심한 말더듬인과 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low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에서 중정도의 말하기 속도이면서 매우 심한 말더듬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대부분 투쟁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은 정확하게 평가하기가 어려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;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이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임상가가 투쟁에 대해서 쉽게 또 당연하게 편견을 가지기 때문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매우 높거나 매우 낮은 말하기 속도는 문제를 제시하는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특히 매우 낮은 말하기 속도에서는 더욱 그렇다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이 너무 심하여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환자는 많은 단어들을 산출할 수 없다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해결책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형태를 숫자나 말더듬의 상이한 유형의 패턴에 근거한 정교한 채점 시스템을 시도하기보다는 오히려 단순히 그 행동의 존재 여부로써 다루었음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표 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9. </a:t>
            </a: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심한 정도에 대한 유창성 인터뷰 지수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FIIS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부모 혹은 환자가 심한 정도를 평가하기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부모의 구어 평가 중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척도의 신뢰도 및 타당도의 문제점을 인식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하기는 말더듬이 환자 혹은 부모들에게 어떻게 보여지는 지에 대한 정보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경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~7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, 7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 척도 사용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에 대한 객관적인 측정과 높은 상관이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임상가의 평가와 부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자의 평가 사이에 상당한 차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일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가능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자연스러움을 평가하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자연스러움 평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연장 프로그램을 실시해온 환자들을 돕기 위한 필요성에서 개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한 명 이상의 청자들에게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우 자연스러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~9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우 부자연스러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많은 연구들이 자연스러움 평가하기가 신뢰할 수 있을 정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두 가지 문제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사람들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임상가가 아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다른 평가자와는 매우 다르게 평가할 수 있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자간 신뢰도 낮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정상적으로 유창한 화자의 자연스러움을 신뢰할 수 있을 정도로 평가하기가 어려웠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9:43:16Z</dcterms:created>
  <dc:creator>kwon</dc:creator>
  <dc:description/>
  <dc:language>en-US</dc:language>
  <cp:lastModifiedBy>user</cp:lastModifiedBy>
  <dcterms:modified xsi:type="dcterms:W3CDTF">2013-11-13T02:26:50Z</dcterms:modified>
  <cp:revision>23</cp:revision>
  <dc:subject/>
  <dc:title>제 3 장 평가</dc:title>
</cp:coreProperties>
</file>