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6858000" cy="9144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003400" y="744120"/>
            <a:ext cx="279072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D63FB-59AC-41FF-9489-8C1888B74B3E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슬라이드 번호 개체 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88408-05F2-4DB4-890B-CB36C2AEC57D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7DA29-F06E-4513-B1B5-A3C8C06F6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FFC92-25D7-4BC6-B195-3E5D91BAE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B32D4-51FE-402B-B42F-F1F8AB527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F6895-366F-4520-A704-DABE9558E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B5B4F-587E-4BC0-840F-FE5CF6DB5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4C5E6-9610-438B-A6A2-0C933B3EC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AC7F3-A288-443C-BB04-D11F4CF30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15BFD-F841-4285-A4C5-17B5FC4D6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4E2C9-DCE2-4D74-A2C7-EA289964B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95FF7-E88D-4178-AC37-9D7161884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D7B12-3500-45D5-A92C-CCA9F4C22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24C12-BDA0-4724-A8D7-56D17160D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CEEA9-5C49-4DBF-9022-BCD084AC6BE5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2502720" y="214920"/>
            <a:ext cx="1800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1" lang="ko-KR" sz="25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입 사 지 원 서 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57120" y="4427640"/>
          <a:ext cx="6215040" cy="933480"/>
        </p:xfrm>
        <a:graphic>
          <a:graphicData uri="http://schemas.openxmlformats.org/drawingml/2006/table">
            <a:tbl>
              <a:tblPr/>
              <a:tblGrid>
                <a:gridCol w="571680"/>
                <a:gridCol w="1133280"/>
                <a:gridCol w="1081080"/>
                <a:gridCol w="642960"/>
                <a:gridCol w="1212840"/>
                <a:gridCol w="878040"/>
                <a:gridCol w="695160"/>
              </a:tblGrid>
              <a:tr h="191880"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능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점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357120" y="5359320"/>
          <a:ext cx="6215040" cy="1998720"/>
        </p:xfrm>
        <a:graphic>
          <a:graphicData uri="http://schemas.openxmlformats.org/drawingml/2006/table">
            <a:tbl>
              <a:tblPr/>
              <a:tblGrid>
                <a:gridCol w="571680"/>
                <a:gridCol w="988920"/>
                <a:gridCol w="2087640"/>
                <a:gridCol w="1152360"/>
                <a:gridCol w="719280"/>
                <a:gridCol w="695160"/>
              </a:tblGrid>
              <a:tr h="487080">
                <a:tc rowSpan="6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력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 회사명 및 부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프리랜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~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3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미디어로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영지원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3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357120" y="3790800"/>
          <a:ext cx="6215040" cy="636840"/>
        </p:xfrm>
        <a:graphic>
          <a:graphicData uri="http://schemas.openxmlformats.org/drawingml/2006/table">
            <a:tbl>
              <a:tblPr/>
              <a:tblGrid>
                <a:gridCol w="571680"/>
                <a:gridCol w="809640"/>
                <a:gridCol w="690480"/>
                <a:gridCol w="690480"/>
                <a:gridCol w="690480"/>
                <a:gridCol w="690840"/>
                <a:gridCol w="690480"/>
                <a:gridCol w="690480"/>
                <a:gridCol w="690480"/>
              </a:tblGrid>
              <a:tr h="264240">
                <a:tc rowSpan="2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역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필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    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    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     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제사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복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357120" y="1914480"/>
          <a:ext cx="6215040" cy="571680"/>
        </p:xfrm>
        <a:graphic>
          <a:graphicData uri="http://schemas.openxmlformats.org/drawingml/2006/table">
            <a:tbl>
              <a:tblPr/>
              <a:tblGrid>
                <a:gridCol w="1243080"/>
                <a:gridCol w="1243080"/>
                <a:gridCol w="1243080"/>
                <a:gridCol w="784080"/>
                <a:gridCol w="1701720"/>
              </a:tblGrid>
              <a:tr h="30492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락처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핸드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E-mai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주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357120" y="7367760"/>
          <a:ext cx="6215040" cy="1357200"/>
        </p:xfrm>
        <a:graphic>
          <a:graphicData uri="http://schemas.openxmlformats.org/drawingml/2006/table">
            <a:tbl>
              <a:tblPr/>
              <a:tblGrid>
                <a:gridCol w="571680"/>
                <a:gridCol w="987480"/>
                <a:gridCol w="1081080"/>
                <a:gridCol w="1008000"/>
                <a:gridCol w="1871640"/>
                <a:gridCol w="695160"/>
              </a:tblGrid>
              <a:tr h="246240">
                <a:tc rowSpan="5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가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관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동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TextBox 11"/>
          <p:cNvSpPr/>
          <p:nvPr/>
        </p:nvSpPr>
        <p:spPr>
          <a:xfrm>
            <a:off x="266760" y="8734320"/>
            <a:ext cx="633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* </a:t>
            </a:r>
            <a:r>
              <a:rPr b="0" lang="ko-KR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상기 지원자의 개인정보는 당사 채용에 필요한 업무에만 활용됨을 알려 드립니다</a:t>
            </a: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5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3"/>
          <p:cNvSpPr/>
          <p:nvPr/>
        </p:nvSpPr>
        <p:spPr>
          <a:xfrm>
            <a:off x="5381280" y="357120"/>
            <a:ext cx="102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경력사원용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발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357120" y="674640"/>
          <a:ext cx="6215040" cy="1212840"/>
        </p:xfrm>
        <a:graphic>
          <a:graphicData uri="http://schemas.openxmlformats.org/drawingml/2006/table">
            <a:tbl>
              <a:tblPr/>
              <a:tblGrid>
                <a:gridCol w="912960"/>
                <a:gridCol w="1230120"/>
                <a:gridCol w="1500480"/>
                <a:gridCol w="1000080"/>
                <a:gridCol w="1571400"/>
              </a:tblGrid>
              <a:tr h="3031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  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생년월일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  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보훈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장애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365040" y="2508120"/>
          <a:ext cx="6205680" cy="1271880"/>
        </p:xfrm>
        <a:graphic>
          <a:graphicData uri="http://schemas.openxmlformats.org/drawingml/2006/table">
            <a:tbl>
              <a:tblPr/>
              <a:tblGrid>
                <a:gridCol w="571680"/>
                <a:gridCol w="571320"/>
                <a:gridCol w="1143000"/>
                <a:gridCol w="922320"/>
                <a:gridCol w="935280"/>
                <a:gridCol w="876240"/>
                <a:gridCol w="546120"/>
                <a:gridCol w="639720"/>
              </a:tblGrid>
              <a:tr h="365400">
                <a:tc row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대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 교 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  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  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득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  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졸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분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등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428760" y="2643120"/>
          <a:ext cx="6072120" cy="6083280"/>
        </p:xfrm>
        <a:graphic>
          <a:graphicData uri="http://schemas.openxmlformats.org/drawingml/2006/table">
            <a:tbl>
              <a:tblPr/>
              <a:tblGrid>
                <a:gridCol w="785520"/>
                <a:gridCol w="846360"/>
                <a:gridCol w="797040"/>
                <a:gridCol w="1000080"/>
                <a:gridCol w="1071360"/>
                <a:gridCol w="1571760"/>
              </a:tblGrid>
              <a:tr h="5000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프 로 젝 트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참여기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 객 사</a:t>
                      </a:r>
                      <a:br>
                        <a:rPr sz="1000"/>
                      </a:b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발 주 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역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시스템환경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Skill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실적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성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53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력예시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28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16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" name="Rectangle 1"/>
          <p:cNvSpPr/>
          <p:nvPr/>
        </p:nvSpPr>
        <p:spPr>
          <a:xfrm>
            <a:off x="2125800" y="214200"/>
            <a:ext cx="230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(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프로젝트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)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2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3" name=""/>
          <p:cNvGraphicFramePr/>
          <p:nvPr/>
        </p:nvGraphicFramePr>
        <p:xfrm>
          <a:off x="428760" y="1000080"/>
          <a:ext cx="6072120" cy="1500120"/>
        </p:xfrm>
        <a:graphic>
          <a:graphicData uri="http://schemas.openxmlformats.org/drawingml/2006/table">
            <a:tbl>
              <a:tblPr/>
              <a:tblGrid>
                <a:gridCol w="961920"/>
                <a:gridCol w="961920"/>
                <a:gridCol w="1022400"/>
                <a:gridCol w="1081080"/>
                <a:gridCol w="843120"/>
                <a:gridCol w="1201680"/>
              </a:tblGrid>
              <a:tr h="248400"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체 경력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스킬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C,java,flex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등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용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숙련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급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중급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급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547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프리랜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4360">
                <a:tc rowSpan="3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3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96600"/>
                <a:gridCol w="790920"/>
                <a:gridCol w="86508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기재 필수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5" name="Rectangle 1"/>
          <p:cNvSpPr/>
          <p:nvPr/>
        </p:nvSpPr>
        <p:spPr>
          <a:xfrm>
            <a:off x="428760" y="21420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7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55560"/>
                <a:gridCol w="743040"/>
                <a:gridCol w="95400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Rectangle 1"/>
          <p:cNvSpPr/>
          <p:nvPr/>
        </p:nvSpPr>
        <p:spPr>
          <a:xfrm>
            <a:off x="428760" y="21420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(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계속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)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1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76280" y="509760"/>
          <a:ext cx="5952960" cy="265248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523800">
                <a:tc gridSpan="2"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개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2868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직사유 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동기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사 후 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한 동기와 잘 할 수 있는 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,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그리고 그 일을 하기 위해 어떤 준비를 하였는지 말하시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3" name="Rectangle 1"/>
          <p:cNvSpPr/>
          <p:nvPr/>
        </p:nvSpPr>
        <p:spPr>
          <a:xfrm>
            <a:off x="412920" y="7918200"/>
            <a:ext cx="59450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와 같이 귀사에 입사를 희망하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 기재내용이 사실과 다른 경우에는 귀사의 어떤 조치에도 이의를 제기치 않겠습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용 업무에 한해 입사지원서에 기입한 개인정보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화번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력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격사항 등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활용에 동의합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15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년  월  일        지원자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서명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476280" y="3243240"/>
          <a:ext cx="5952960" cy="227952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227952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무기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 성공 및 실패사례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인이 가장 열정과 관심을 쏟았던 분야 및 이를 통해 성취한 성공 및 실패 사례를 구체적으로 기술하시기 바랍니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5" name="Picture 240" descr=""/>
          <p:cNvPicPr/>
          <p:nvPr/>
        </p:nvPicPr>
        <p:blipFill>
          <a:blip r:embed="rId1"/>
          <a:stretch/>
        </p:blipFill>
        <p:spPr>
          <a:xfrm>
            <a:off x="474840" y="46080"/>
            <a:ext cx="949320" cy="42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6" name=""/>
          <p:cNvGraphicFramePr/>
          <p:nvPr/>
        </p:nvGraphicFramePr>
        <p:xfrm>
          <a:off x="500040" y="5659560"/>
          <a:ext cx="5907240" cy="896760"/>
        </p:xfrm>
        <a:graphic>
          <a:graphicData uri="http://schemas.openxmlformats.org/drawingml/2006/table">
            <a:tbl>
              <a:tblPr/>
              <a:tblGrid>
                <a:gridCol w="857160"/>
                <a:gridCol w="1000080"/>
                <a:gridCol w="2571840"/>
                <a:gridCol w="1478160"/>
              </a:tblGrid>
              <a:tr h="2077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근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읽은 도서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서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저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7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관련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2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 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7" name=""/>
          <p:cNvGraphicFramePr/>
          <p:nvPr/>
        </p:nvGraphicFramePr>
        <p:xfrm>
          <a:off x="500040" y="6686640"/>
          <a:ext cx="2722680" cy="987480"/>
        </p:xfrm>
        <a:graphic>
          <a:graphicData uri="http://schemas.openxmlformats.org/drawingml/2006/table">
            <a:tbl>
              <a:tblPr/>
              <a:tblGrid>
                <a:gridCol w="841320"/>
                <a:gridCol w="1881360"/>
              </a:tblGrid>
              <a:tr h="28872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9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5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연봉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8" name=""/>
          <p:cNvGraphicFramePr/>
          <p:nvPr/>
        </p:nvGraphicFramePr>
        <p:xfrm>
          <a:off x="3286080" y="6688080"/>
          <a:ext cx="3143160" cy="981000"/>
        </p:xfrm>
        <a:graphic>
          <a:graphicData uri="http://schemas.openxmlformats.org/drawingml/2006/table">
            <a:tbl>
              <a:tblPr/>
              <a:tblGrid>
                <a:gridCol w="785880"/>
                <a:gridCol w="785880"/>
                <a:gridCol w="785880"/>
                <a:gridCol w="785520"/>
              </a:tblGrid>
              <a:tr h="287280">
                <a:tc grid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00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승진년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연봉</a:t>
                      </a: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센티브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제외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09:49:00Z</dcterms:created>
  <dc:creator>LGDACOM</dc:creator>
  <dc:description/>
  <dc:language>en-US</dc:language>
  <cp:lastModifiedBy>medialog</cp:lastModifiedBy>
  <cp:lastPrinted>2011-01-27T06:54:10Z</cp:lastPrinted>
  <dcterms:modified xsi:type="dcterms:W3CDTF">2015-02-23T01:24:11Z</dcterms:modified>
  <cp:revision>151</cp:revision>
  <dc:subject/>
  <dc:title>슬라이드 1</dc:title>
</cp:coreProperties>
</file>