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764CE-F3C3-4D62-BA2F-7983FB8AF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2251D-31CF-4E0F-942B-60375C5BA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4F88807-F434-4E75-B21A-FBF8CEDBD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11DAFFF-7752-490B-B525-694E86120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A063B41-EB9F-4DA9-9B98-12D662261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4A76FF9-AFA8-4163-9EC4-36AB17EAC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84DA261-864B-4548-ADBF-F22FF6807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92AFDC5-8A8E-4093-9CFF-51699212B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ED3A230-EA93-48DE-A5EE-8BCAE1180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4F67F7F-C95D-4835-974E-C6B205364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624A905-F681-4F32-8DCA-50EB5AC74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23140-888B-4DCA-AFD4-800A38FAB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AF44E-66A2-48D8-A61C-6E72FC6C8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BA70C7-3C9F-418E-B2F4-E434B5C3E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F1CFA6-EBAD-4310-A524-D5873E973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781913-CF0A-4FC2-BE4F-50ED03A2D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EB9278-D53C-4704-A3E1-8458C6BC5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AA7E5F-3417-4EB4-81A8-F2204E2E5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28BF6E-F8CB-44B6-8957-E45A6F4C5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28A4A8-2AEE-4F9C-90C5-8261132FF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8914A-5C0A-489F-B291-039A7259B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E9F9E7-4978-43CD-A56F-BE46568CD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681028-0091-47F8-B2D4-06F2A18BC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F63792-F4C8-4A68-B173-EBE85DD09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C35607-D421-4BA5-B6E1-9DE1BDD98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A6677E-F9DE-4DC4-BBB2-4CB6B7A41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4B28DF-1F56-4D35-86CD-1835A4AAA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4F2CC0-FBF9-4A24-A795-5C43F6433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1F996B-5F8F-44FB-9C84-45689C68A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2E1CC5-AC8F-4B50-B771-4239DAD23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A19E37-6B44-4E42-BE6A-AD31F9378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86F8A-186A-43B7-9FA0-29B35C052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D868DC-CFBE-4A33-9AA4-88043FC20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4D491E-35EF-470F-ACC9-1E0828902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8DDD8B-0CEB-43D3-931D-9A3EE5484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C67815-C328-4AF9-B176-CE9992DC7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857FA0-1FDD-47AA-8988-5A884D6B9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275BC3-353D-4B71-98DF-1DA2C47C8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3D493B-5CF3-464D-B3A7-8DF7DCE37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C25B816-1ED5-4C55-820B-6B802DE12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A8E6EE1-8A56-4829-B903-BAE901B52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7797889-4C15-4092-BABF-00BB210F9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C7CFB-5BCE-4A9C-9498-99169B359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B512191-F6BB-44BB-B9EB-9707BB62D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5EAF018-AE62-4358-9D48-DD7F34E50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590BF8E-3EAF-4707-AEDD-D58808018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B5395A8-F42B-4555-BF48-D0F770F0E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78A602E-40E8-4FFE-8F7D-45344DFF5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B1FB449-2A96-48BD-A500-62B6301B6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3D5BA48-D6B3-4DC3-B9C3-156973A6D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19B5DA0-A887-4588-99DB-28A25CFB7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C51D21E-F85E-4664-939B-B66878FE2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A33328-A8BE-4D41-AA71-55337B680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4CAE4-A0E0-44CD-AA4B-D378EABD1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97DC9D-A5E6-4566-9514-3AB12BC0F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ADBFB9-CCA5-480F-9946-E0AE0A1A2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6EF621-7B0C-4CA5-AB35-C3326124F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59C636-A86C-494A-9DDB-8C3ACC645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22270D-291D-414C-A8CA-6B10E4094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EFE314-AF20-4EA3-B061-6EF97AD3E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1144CB-0072-40C6-B74B-FF2CAFC46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5442A2-8688-442E-B01D-75D6CAB6B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46E39E-4443-48C4-9F48-9584B466C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A97AC1-508C-4F40-A05B-BD22D75CB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176A2-633E-4BC2-A7D4-A34096AD0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4125DA-422E-4316-BD82-D5826FE43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F1809A-467B-45B2-AF8E-13EC516A7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59ACBA-5FA3-44A9-9ED9-0BAA314CB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DD1633-6B97-48C4-BFC9-0D83CC16B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E3437E-F3EC-4506-94F1-36ED77942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2C709D-B704-46D9-AABE-62E2652C5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2D4A4A-1813-4AEA-A4F0-847F9EA4F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78B206-CAE0-46FF-8FEA-2BE1CC5A1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6065AD-B374-4DF3-BCBA-77A356416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B70EA3-70F2-4629-8866-336EC1B26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D6F2C-0DED-4338-BEF9-65952677C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88FA24-7586-4690-A7F6-EABAF5468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2965A5-8E83-4E2B-AB4C-7A1333B5D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DD0C71-2011-4C32-B097-A3CBFE4D5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535D7A-2498-4CBD-9E0C-FA30C5A90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54F122-1C1E-414A-A701-EFF1F56DA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03106C-FFAD-425A-8BD4-2BA7D1015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808577-369A-4C20-9D09-0324D2BDA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C8CD24-EA5C-4C0E-A536-D74B603B5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24FB53-C28F-4EDC-9A28-A940DD8A0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16FDED-65DB-422C-9545-7DA34AE3E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66E9B-FFB5-4842-A5F1-24281C096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8A6279-9084-490F-9790-4D2330E6A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00768B-6FB3-4BD9-BAAE-DF3C169AF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8F7EEA-DEA6-4C70-862A-DFF0A8710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597AB1-D2FD-4B9C-8148-A1C7DCADD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DB008E-0F29-4B90-90A7-82ABDB959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3CFCE03-ED73-4DD0-835D-AFAA629F9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4301A3F-E949-46A0-A9F8-64661EFF0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51CB09D-B03D-4BD2-A124-0932E0BBB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74BB8D2-6A9F-411B-9D10-E26D2312C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ED5F74D-0414-4FD2-A257-E0E757268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91488-B1FE-4EC0-B6C6-C04719C82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71D5E55-65CC-4AEB-80A8-66ECA46BC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4510C87-834C-4F93-906B-B4CE54919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8D4C125-BF4E-454C-B60B-4691EAB59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CDA8D35-2069-448E-8B87-1BC60904A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6942B92-D1CF-45F9-861D-DCB1F3925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36FEEF0-1732-49C6-BA1C-77EC6EFF9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6033CAE-9246-486A-8437-5316745DE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17C2886-93F3-4649-B27A-E123FE8EB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D09CAA4-E753-4FBF-A04E-EB4B5BF59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A27BEBB-20BF-4232-A785-063BD8CF4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7D4D9-4061-4AC8-9D4A-BE3E20199442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대각선 방향의 모서리가 둥근 사각형 7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45" name="대각선 방향의 모서리가 둥근 사각형 7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1CBBF-FB0A-48AA-B943-E8754DDFA354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89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91" name="직사각형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80819-635B-41C7-830E-68E8C624A3E1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직사각형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572F4-BCE5-46FF-BEB8-D93E56865422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76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178" name="직사각형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26067-B24B-4840-9753-49C1B0FEFA87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21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223" name="직사각형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4" name="직사각형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8F3FA-F9E4-465E-A9D2-678D11ABB39D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67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269" name="직사각형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C1A75-A706-44FE-87C3-50F55A8C0D83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직사각형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86287-EE6E-4492-BF04-673DD1F5BE3E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E4FDB-5B9B-4E16-B82C-625A41DBF1EE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Rectangle 2" descr=""/>
          <p:cNvPicPr/>
          <p:nvPr/>
        </p:nvPicPr>
        <p:blipFill>
          <a:blip r:embed="rId1"/>
          <a:stretch/>
        </p:blipFill>
        <p:spPr>
          <a:xfrm>
            <a:off x="457200" y="378000"/>
            <a:ext cx="8418600" cy="2232000"/>
          </a:xfrm>
          <a:prstGeom prst="rect">
            <a:avLst/>
          </a:prstGeom>
          <a:ln w="0">
            <a:noFill/>
          </a:ln>
        </p:spPr>
      </p:pic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2133360" y="2819520"/>
            <a:ext cx="6559560" cy="1752480"/>
          </a:xfrm>
          <a:prstGeom prst="rect">
            <a:avLst/>
          </a:prstGeom>
          <a:noFill/>
          <a:ln w="0">
            <a:noFill/>
          </a:ln>
        </p:spPr>
        <p:txBody>
          <a:bodyPr lIns="45720" rIns="246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7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조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김효나 김규빈 정나훈 신동현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제목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 txBox="1"/>
          <p:nvPr/>
        </p:nvSpPr>
        <p:spPr>
          <a:xfrm>
            <a:off x="428760" y="357120"/>
            <a:ext cx="822960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우리 나라의 목재공업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6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부터 공업발전과 수출증대를 위한 전략산업으로 육성되어 지속적인 발전을 이룩해 왔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공업의 산업동향은 주요 원자재인 원목의 확보와 건축경기에 따라 크게 좌우되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최근 자원보유국의 자원보호 및 공업화 정책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석유에너지에 대한 대체 자원으로서 목재의 재평가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자원의 지역 편재 등으로 인하여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국내 목재수요의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95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％ 이상을 외재에 의존하고 있는 우리 나라로서는 앞으로 지속적이고 안정적인 목재 수급이 중요한 과제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목재공업의 대표적인 산업으로 여겨지던 합판공업이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이후 지속적으로 쇠퇴하면서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공업은 보드류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가구나 악기 등의 제조업과 함께 목제품의 종합적인 수요처인 목조주택의 비중이 증가하고 있는 실정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 txBox="1"/>
          <p:nvPr/>
        </p:nvSpPr>
        <p:spPr>
          <a:xfrm>
            <a:off x="324000" y="47592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광복 이전의 우리 나라 목재공업은 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1909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년 통감부 영림서에 의하여 관영제재사업으로 시작되었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당시의 관영제재사업은 신의주 영림서의 경영하에 주로 군수용을 비롯한 연초포장상자 또는 침목 등의 공급을 맡았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광복 이전의 목재공업은 오늘날의 기준으로 보면 대체로 원시적인 제재형태를 벗어나지 못한 소규모의 수공업형태를 이루었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광복 후 무질서한 산림남벌로 인한 원목공급량의 격증과 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6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25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전쟁 이후 주택을 비롯한 각종 산재 복구사업 및 인구증가에 힘입어 제재업이 급속히 성장하여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1960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년대 초까지 목재공업이 주류를 이루어 왔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 txBox="1"/>
          <p:nvPr/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합판은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54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 동명목재와 일부 영세업체에 의하여 생산되기 시작하였으며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1958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 이후 국내 건축경기의 상승 및 수출수요증가에 힘입어 생산능력도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54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의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8,000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만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에서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6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에는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5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억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로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5.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배 증가하였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64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부터 합판공업은 수출특화산업으로 지정되어 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7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까지 생산과 수출에 있어서 연평균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30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％ 이상의 급속한 신장세를 보였으며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197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까지 제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위의 합판수출국으로 성장하였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그러나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대에 들어 합판공업은 원가상승과 인도네시아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말레이시아 등 동남아의 후발 합판생산국들이 저렴한 가격을 바탕으로 세계합판시장에 본격적으로 진출함으로써 수출의 대부분을 가공도가 낮은 보통합판에 의존하고 있는 국산합판의 수출이 급격히 감소하게 되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 txBox="1"/>
          <p:nvPr/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국내 목재산업구조의 변화는 양질의 원목가격 상승 및 해외 적정 원목 확보의 어려움과 해외 산림자원국의 원목생산 및 수출 금지와 자국 생산 목가공재의 수출전략화 정책 등으로 국내 목재산업은 수출에서 내수용 생산으로 전환되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95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 현재 우리 나라 목재공업 관련 업체수는 국내 목제품 제조업체의 수출경쟁력을 상실한 상태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이들 목재산업이 안고 있는 문제점을 요약해 보면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원목의 높은 해외의존도 및 원목확보난의 심화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원목 산지국의 합판수출국화에 따른 국제경제력 약화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수출시장의 협소 및 편중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낮은 외화가득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업계의 재무구조 취약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후반부터 통나무집과 경골 목조주택이 보급되기 시작하면서 목조주택을 비롯한 목조건축산업은 목제품의 대량 공급처로서 가능성이 매우 높아 국민의 관심을 끌고 있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6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초부터 전성기를 맞아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까지 국민경제에 크게 기여해왔던 목재공업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9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에 들어 상당히 위축되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특히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합판공업은 소요 원목을 전량 수입에 의존하는 구조적인 취약점을 가지고 있어  문제가 심각하였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Rectangle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원목의 높은 해외의존도 및 원목확보난의 심화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원목 산지국의 합판수출국화에 따른 국제경제력 약화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수출시장의 협소 및 편중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낮은 외화가득률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업계의 재무구조 취약 등을 들 수 있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이러한 문제점을 해결하지 못한다면 결국 목재산업의 사양화는 불가피할 것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Rectangle 2" descr=""/>
          <p:cNvPicPr/>
          <p:nvPr/>
        </p:nvPicPr>
        <p:blipFill>
          <a:blip r:embed="rId1"/>
          <a:stretch/>
        </p:blipFill>
        <p:spPr>
          <a:xfrm>
            <a:off x="450720" y="-85680"/>
            <a:ext cx="8455320" cy="78732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 txBox="1"/>
          <p:nvPr/>
        </p:nvSpPr>
        <p:spPr>
          <a:xfrm>
            <a:off x="357120" y="620640"/>
            <a:ext cx="822960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첫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정부와 업계가 공동으로 해외임지확보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산림개발을 위한 조사 및 외교를 강화하여야 할 것이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둘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제재의 수율증대를 위한 기술개발 및 국산 소경목을 이용한 목재제품 개발과 고급가공합판 중심으로의 생산체제 전환 등이 시급히 요청된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셋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생산시설을 합리적으로 조정하여 과당경쟁을 배제함으로써 생산협력체제를 구축하고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가구산업 등에서 다품종 소량생산 체계를 갖추어 경쟁력을 확보하는 것이 필요하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넷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장기적인 목재자급기반의 구축을 위하여 국내산림자원의 효율적 경영 및 국산재의 고부가가치 이용기술 개발이 요구된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Rectangle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우리 나라에서 산림녹화를 통하여 조성된 조림지에서 생산되는 간벌재를 비롯한 중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소경제의 생산잠재력이 증가하고 있고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최근 진행되고 있는 생명의 숲가꾸기 사업 등의 본격적인 추진과 관련하여 국산재의 자급률이 차츰 높아질 것으로 기대되고 있다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Rectangle 2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455320" cy="1433520"/>
          </a:xfrm>
          <a:prstGeom prst="rect">
            <a:avLst/>
          </a:prstGeom>
          <a:ln w="0">
            <a:noFill/>
          </a:ln>
        </p:spPr>
      </p:pic>
      <p:sp>
        <p:nvSpPr>
          <p:cNvPr id="397" name=""/>
          <p:cNvSpPr txBox="1"/>
          <p:nvPr/>
        </p:nvSpPr>
        <p:spPr>
          <a:xfrm>
            <a:off x="468360" y="1413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우리나라의 토지 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65%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가 산림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하지만 목재 자급률은 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10%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미만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국산재의 지속적 지급이 필요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최근 환경에 대한 관심의 증가 및 탄소 배출권 등으로 목재산업과 산림업이 새롭게 관심을 받고 있다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산림청을 비롯한 산림조합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목재업계 관계자들이 최근 ‘목재의 지속 가능한 이용에 관한 법률안’을 대표 발의한 황영철 의원을 방문해 목재산업 진흥을 위한 발전방안을 논의했다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 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이 자리에서 ‘목재의 지속가능한 이용에 관한 법률’이 </a:t>
            </a:r>
            <a:r>
              <a:rPr b="0" lang="ko-KR" sz="3200" spc="-1" strike="noStrike">
                <a:solidFill>
                  <a:srgbClr val="00b0f0"/>
                </a:solidFill>
                <a:latin typeface="새굴림"/>
                <a:ea typeface="새굴림"/>
              </a:rPr>
              <a:t>목재산업 발전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에 초석이 될 것이라며 목조건축을 포함한 목재산업은 다른 분야에 비해 고용창출 효과가 크며 </a:t>
            </a:r>
            <a:r>
              <a:rPr b="0" lang="ko-KR" sz="3200" spc="-1" strike="noStrike">
                <a:solidFill>
                  <a:srgbClr val="00b0f0"/>
                </a:solidFill>
                <a:latin typeface="새굴림"/>
                <a:ea typeface="새굴림"/>
              </a:rPr>
              <a:t>국산 목재를 이용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할 경우 </a:t>
            </a:r>
            <a:r>
              <a:rPr b="0" lang="ko-KR" sz="3200" spc="-1" strike="noStrike">
                <a:solidFill>
                  <a:srgbClr val="00b0f0"/>
                </a:solidFill>
                <a:latin typeface="새굴림"/>
                <a:ea typeface="새굴림"/>
              </a:rPr>
              <a:t>탄소배출권을 확보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하는 등 전망이 밝은 분야임을 강조했다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제목 1" descr=""/>
          <p:cNvPicPr/>
          <p:nvPr/>
        </p:nvPicPr>
        <p:blipFill>
          <a:blip r:embed="rId1"/>
          <a:stretch/>
        </p:blipFill>
        <p:spPr>
          <a:xfrm>
            <a:off x="450720" y="-96840"/>
            <a:ext cx="8491680" cy="15048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열악한 국내 목재산업을 획기적으로 키우기 위해 산림청은 지난 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1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월 국산목재 이용확대와 목재산업기반 구축 등을 골자로 하는 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'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목재산업진흥 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5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개년 종합계획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'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을 발표했다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이 계획은 </a:t>
            </a:r>
            <a:r>
              <a:rPr b="0" lang="ko-KR" sz="4000" spc="-1" strike="noStrike">
                <a:solidFill>
                  <a:srgbClr val="00b0f0"/>
                </a:solidFill>
                <a:latin typeface="Rockwell"/>
              </a:rPr>
              <a:t>우리 정부가 사실상 최초로 마련한 목재산업 관련 마스터플랜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이다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Rectangle 8" descr=""/>
          <p:cNvPicPr/>
          <p:nvPr/>
        </p:nvPicPr>
        <p:blipFill>
          <a:blip r:embed="rId1"/>
          <a:stretch/>
        </p:blipFill>
        <p:spPr>
          <a:xfrm>
            <a:off x="450720" y="-12600"/>
            <a:ext cx="8455320" cy="78732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 txBox="1"/>
          <p:nvPr/>
        </p:nvSpPr>
        <p:spPr>
          <a:xfrm>
            <a:off x="457200" y="76500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제안이유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기후변화 협약 이행을 위한 </a:t>
            </a:r>
            <a:r>
              <a:rPr b="0" lang="ko-KR" sz="2800" spc="-1" strike="noStrike">
                <a:solidFill>
                  <a:srgbClr val="00b0f0"/>
                </a:solidFill>
                <a:latin typeface="Rockwell"/>
              </a:rPr>
              <a:t>탄소저감 방안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의 하나로 목재이용을 증진하고 국제적인 목재자원 보호정책에 대응하기 위해 국산재의 지속적인 공급확대가 절실히 요구되고 있음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현행법은 일부에서 품질관리 및 인증제도를 시행할 수 있도록 규정하고 있을 뿐 목재이용에 대한 인식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다음 세대를 위한 전통 목재문화 계승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교육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품질향상을 통한 산업경쟁력 강화 등 목재이용 전반에 관한 적극적 홍보 및 체계적인 지원 기반이 부족한 실정임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이에 정확한 목재이용 실태조사를 통하여 </a:t>
            </a:r>
            <a:r>
              <a:rPr b="0" lang="ko-KR" sz="2800" spc="-1" strike="noStrike">
                <a:solidFill>
                  <a:srgbClr val="00b0f0"/>
                </a:solidFill>
                <a:latin typeface="Rockwell"/>
              </a:rPr>
              <a:t>목재문화 진흥 및 목재이용 활성화 사업을 체계적으로 지원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함으로써 국민의 삶의 질 향상에 기여하고 목재의 지속가능한 이용을 도모하려는 것임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455320" cy="79236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 txBox="1"/>
          <p:nvPr/>
        </p:nvSpPr>
        <p:spPr>
          <a:xfrm>
            <a:off x="500040" y="131400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'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목재산업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'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우리에겐 비중 있게 와닿지 않는 산업분야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한국전쟁을 겪으며 벌거숭이가 됐던 산야를 녹화하기 위해 뒤도 돌아보지 않고 달려만 왔을 뿐 나무를 본격적으로 활용하는데 대한 고민이 적어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따라서 국내 목재산업의 기반은 아직까지 미미한 수준에 머물고 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하지만 최근 목재생산국들의 원목수출금지 조치 등 목재자원주권화 경향과 지구온난화 등으로 목재의 경제적 중요성이 높아지면서 국내 목재산업 인프라를 키워야 한다는 목소리가 높아지고 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정부도 국내 산림자원량이 성숙단계에 왔다고 판단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목재산업 활성화를 통해 기후변화 및 자유무역협정 등에 적극 대처해 나간다는 방침이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Rectangle 2" descr=""/>
          <p:cNvPicPr/>
          <p:nvPr/>
        </p:nvPicPr>
        <p:blipFill>
          <a:blip r:embed="rId1"/>
          <a:stretch/>
        </p:blipFill>
        <p:spPr>
          <a:xfrm>
            <a:off x="450720" y="-66600"/>
            <a:ext cx="8541000" cy="98748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 txBox="1"/>
          <p:nvPr/>
        </p:nvSpPr>
        <p:spPr>
          <a:xfrm>
            <a:off x="457200" y="907560"/>
            <a:ext cx="829152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우리나라는 지난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60~19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목재산업의 비중이 상대적으로 컸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당시에는 정부 차원에서 수출장려와 고용창출을 위해 목재 가공무역을 활성화하면서 수출 효자상품으로 각광받기도 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그러나 제조업 전반이 발전하지 못한 시절이어서 목재산업이 경제에서 차지하는 비중만 컸을 뿐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이마저도 이후 개발도상국들의 원목수출 금지정책과 건설경기불황 및 수입목재가격 상승이 맞물리면서 국내 목재산업은 침체기로 접어들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여기에 숲가꾸기와 조림 등 산림보호와 육성에 초점이 맞춰진 산림정책도 목재산업 경쟁력 약화의 원인이 됐다는 분석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산림청에 따르면 국내에서는 목재가공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제지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가구 등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3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개 부문으로 분류되는 목재 산업계에는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009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 현재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300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여개 관련업체가 있으며 종사자는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8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만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00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여명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연간 생산액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4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조원 규모로 국내 제조업 전체 생산액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(1122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조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98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억원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)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의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.1%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에 그치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국내 전체 목제품에 사용되는 국산 원목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01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 말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3.5%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에 머물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특히 국산 목제품의 양은 국내 전체 목재 수요량의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6%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에 불과하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Rectangle 2" descr=""/>
          <p:cNvPicPr/>
          <p:nvPr/>
        </p:nvPicPr>
        <p:blipFill>
          <a:blip r:embed="rId1"/>
          <a:stretch/>
        </p:blipFill>
        <p:spPr>
          <a:xfrm>
            <a:off x="390600" y="182520"/>
            <a:ext cx="8540640" cy="116532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 txBox="1"/>
          <p:nvPr/>
        </p:nvSpPr>
        <p:spPr>
          <a:xfrm>
            <a:off x="456840" y="1483920"/>
            <a:ext cx="843588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상업용으로 쓰이는 목재는 그 목적에 따라서 여러 가지로 분류할 수 있는데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일반적으로 목재에는 통나무와 제재목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製材木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이 포함된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ffff"/>
                </a:solidFill>
                <a:uFillTx/>
                <a:latin typeface="Rockwell"/>
              </a:rPr>
              <a:t>목재의 종류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를 형상에 따라 분류하면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① </a:t>
            </a:r>
            <a:r>
              <a:rPr b="1" lang="ko-KR" sz="2800" spc="-1" strike="noStrike">
                <a:solidFill>
                  <a:srgbClr val="ffffff"/>
                </a:solidFill>
                <a:latin typeface="Rockwell"/>
              </a:rPr>
              <a:t>소재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：보통 통나무라고 부르는 것의 총칭으로 아무런 가공을 하지 않거나 거칠게 가공한 목재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② </a:t>
            </a:r>
            <a:r>
              <a:rPr b="1" lang="ko-KR" sz="2800" spc="-1" strike="noStrike">
                <a:solidFill>
                  <a:srgbClr val="ffffff"/>
                </a:solidFill>
                <a:latin typeface="Rockwell"/>
              </a:rPr>
              <a:t>제재목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：통나무 등 원목에 톱을 대어 가공한 것으로 크게 판재류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각재류의 두 종류로 구분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③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합판과 단판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섬유판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파티클보드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</a:t>
            </a:r>
            <a:r>
              <a:rPr b="1" lang="ko-KR" sz="2800" spc="-1" strike="noStrike">
                <a:solidFill>
                  <a:srgbClr val="ffffff"/>
                </a:solidFill>
                <a:latin typeface="Rockwell"/>
              </a:rPr>
              <a:t>＊</a:t>
            </a:r>
            <a:r>
              <a:rPr b="1" lang="en-US" sz="2800" spc="-1" strike="noStrike">
                <a:solidFill>
                  <a:srgbClr val="ffffff"/>
                </a:solidFill>
                <a:latin typeface="Rockwell"/>
              </a:rPr>
              <a:t>OSB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공학목재 등이 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목재는 지구상 유일한 재생산 가능한 천연재료로서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인류가 살아가는 거의 모든 용도에 널리 이용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오랫동안 한옥형태의 목조주택을 위주로 한 주거문화로 발전하여 왔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.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 txBox="1"/>
          <p:nvPr/>
        </p:nvSpPr>
        <p:spPr>
          <a:xfrm>
            <a:off x="395280" y="69192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는 다른 재료에서 볼 수 없는 우수한 재료적 특성 때문에 여전히 우리 생활의 많은 부분에서 필수 재료로서 쓰이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오늘날 목재의 대표적인 용도를 살펴보면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건축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가구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포장상자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차량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갱목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침목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전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악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운동기구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합판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집성재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연료 등에 이르기까지 매우 다양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를 활용하여 최근에 개발한 첨단 재료는 이전까지 사용되던 재료와는 판이한 새로운 개념의 재료가 사용되고 있거나 개발되고 있어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의 부가가치를 높이는 데 기여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와 관련한 산업활동은 넓은 의미에서 소재생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 및 임산제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유통 등을 포함한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노동집약적이고 수송비와 보관비 등이 큰 특징을 가지고 있으며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나 보드류 산업 등의 경우 초기 투자비용이 큰 장치산업적 특징을 가지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공업은 제재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제품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합판 등 보드류 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기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종이 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조주택 등의 산업활동을 총칭하는 것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8T09:10:03Z</dcterms:created>
  <dc:creator>admin</dc:creator>
  <dc:description/>
  <dc:language>en-US</dc:language>
  <cp:lastModifiedBy>com</cp:lastModifiedBy>
  <dcterms:modified xsi:type="dcterms:W3CDTF">2012-05-22T03:36:57Z</dcterms:modified>
  <cp:revision>24</cp:revision>
  <dc:subject/>
  <dc:title>환경재료학 목재산업</dc:title>
</cp:coreProperties>
</file>